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C93-8BCB-4DA3-9B30-E123D0DB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CA8-551C-4050-8B3B-BA663938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F61-D628-4E52-B2B8-7FF27870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883-DDC4-4306-A1E2-68DF31B9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CF7-6265-4D6B-90EC-62F6430B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6A9-FA4B-40B1-AFF5-F433BC4B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A01-7C27-4873-85B6-8C532B8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6A4-4219-4114-975C-4DDFDDCF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3A7-107C-43D1-AB6B-5373952E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39F-29C4-447B-8D0E-49ADFD9D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067-373D-4BAE-9AFC-A92FD65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42B-485A-460B-8E6E-CD821B0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7148-A913-4448-A7B0-CA50F77C8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28960" y="2239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inter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90920" y="2362320"/>
            <a:ext cx="5867280" cy="609480"/>
            <a:chOff x="2590920" y="2362320"/>
            <a:chExt cx="5867280" cy="609480"/>
          </a:xfrm>
        </p:grpSpPr>
        <p:sp>
          <p:nvSpPr>
            <p:cNvPr id="241" name=""/>
            <p:cNvSpPr/>
            <p:nvPr/>
          </p:nvSpPr>
          <p:spPr>
            <a:xfrm>
              <a:off x="342900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7080" y="2362320"/>
              <a:ext cx="60984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0552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81680" y="2362320"/>
              <a:ext cx="60984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23623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29000" y="3200400"/>
            <a:ext cx="5029200" cy="3352680"/>
            <a:chOff x="3429000" y="3200400"/>
            <a:chExt cx="5029200" cy="3352680"/>
          </a:xfrm>
        </p:grpSpPr>
        <p:sp>
          <p:nvSpPr>
            <p:cNvPr id="249" name=""/>
            <p:cNvSpPr/>
            <p:nvPr/>
          </p:nvSpPr>
          <p:spPr>
            <a:xfrm>
              <a:off x="34290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670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055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436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487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816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670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55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36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87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816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670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36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487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816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55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436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87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816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590920" y="3200400"/>
            <a:ext cx="609480" cy="3352680"/>
            <a:chOff x="2590920" y="3200400"/>
            <a:chExt cx="609480" cy="3352680"/>
          </a:xfrm>
        </p:grpSpPr>
        <p:sp>
          <p:nvSpPr>
            <p:cNvPr id="274" name=""/>
            <p:cNvSpPr/>
            <p:nvPr/>
          </p:nvSpPr>
          <p:spPr>
            <a:xfrm>
              <a:off x="2590920" y="32004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90920" y="4038480"/>
              <a:ext cx="6094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90920" y="48769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0920" y="59436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352680" y="2057400"/>
            <a:ext cx="5181840" cy="4572000"/>
            <a:chOff x="3352680" y="2057400"/>
            <a:chExt cx="5181840" cy="4572000"/>
          </a:xfrm>
        </p:grpSpPr>
        <p:sp>
          <p:nvSpPr>
            <p:cNvPr id="279" name=""/>
            <p:cNvSpPr/>
            <p:nvPr/>
          </p:nvSpPr>
          <p:spPr>
            <a:xfrm>
              <a:off x="5867280" y="2057400"/>
              <a:ext cx="266724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2680" y="2057400"/>
              <a:ext cx="243864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67080" y="2362320"/>
              <a:ext cx="60984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0552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4360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4872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1680" y="2362320"/>
              <a:ext cx="60984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290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670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55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436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487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670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36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16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290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055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36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816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670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55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436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487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816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133720" y="3124080"/>
            <a:ext cx="6400800" cy="3505320"/>
            <a:chOff x="2133720" y="3124080"/>
            <a:chExt cx="6400800" cy="3505320"/>
          </a:xfrm>
        </p:grpSpPr>
        <p:sp>
          <p:nvSpPr>
            <p:cNvPr id="312" name=""/>
            <p:cNvSpPr/>
            <p:nvPr/>
          </p:nvSpPr>
          <p:spPr>
            <a:xfrm>
              <a:off x="2133720" y="3124080"/>
              <a:ext cx="6400800" cy="16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290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670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487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16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290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670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36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487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16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90920" y="32004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90920" y="4038480"/>
              <a:ext cx="6094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3720" y="4800600"/>
              <a:ext cx="6400800" cy="1828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0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670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55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87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816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90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670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87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816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90920" y="48769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920" y="59436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28960" y="2239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inter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correspond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590920" y="3200400"/>
            <a:ext cx="990360" cy="3124080"/>
            <a:chOff x="2590920" y="3200400"/>
            <a:chExt cx="990360" cy="3124080"/>
          </a:xfrm>
        </p:grpSpPr>
        <p:sp>
          <p:nvSpPr>
            <p:cNvPr id="353" name=""/>
            <p:cNvSpPr/>
            <p:nvPr/>
          </p:nvSpPr>
          <p:spPr>
            <a:xfrm>
              <a:off x="2590920" y="320040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u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90920" y="4038480"/>
              <a:ext cx="99036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on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90920" y="487692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ar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90920" y="571500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0920" y="2362320"/>
            <a:ext cx="5867280" cy="609480"/>
            <a:chOff x="2590920" y="2362320"/>
            <a:chExt cx="5867280" cy="609480"/>
          </a:xfrm>
        </p:grpSpPr>
        <p:sp>
          <p:nvSpPr>
            <p:cNvPr id="358" name=""/>
            <p:cNvSpPr/>
            <p:nvPr/>
          </p:nvSpPr>
          <p:spPr>
            <a:xfrm>
              <a:off x="380988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0920" y="236232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2920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48520" y="236232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67480" y="23623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809880" y="3200400"/>
            <a:ext cx="4648320" cy="3124080"/>
            <a:chOff x="3809880" y="3200400"/>
            <a:chExt cx="4648320" cy="3124080"/>
          </a:xfrm>
        </p:grpSpPr>
        <p:sp>
          <p:nvSpPr>
            <p:cNvPr id="364" name=""/>
            <p:cNvSpPr/>
            <p:nvPr/>
          </p:nvSpPr>
          <p:spPr>
            <a:xfrm>
              <a:off x="380988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0988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2920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48520" y="320040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48520" y="4038480"/>
              <a:ext cx="99036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487692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48520" y="571500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748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6748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6748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6748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209680" y="2139480"/>
            <a:ext cx="6775920" cy="4644000"/>
            <a:chOff x="2209680" y="2139480"/>
            <a:chExt cx="6775920" cy="4644000"/>
          </a:xfrm>
        </p:grpSpPr>
        <p:sp>
          <p:nvSpPr>
            <p:cNvPr id="381" name=""/>
            <p:cNvSpPr/>
            <p:nvPr/>
          </p:nvSpPr>
          <p:spPr>
            <a:xfrm>
              <a:off x="7453080" y="64152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1627560" y="27216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0920" y="2362320"/>
              <a:ext cx="6095880" cy="403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510552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05320" y="3581280"/>
              <a:ext cx="108000" cy="1080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2400" y="320040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0120" y="2819520"/>
              <a:ext cx="108000" cy="1080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24680" y="4800600"/>
              <a:ext cx="108000" cy="1080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00440" y="51814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320040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36960" y="32767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86000" y="3276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29200" y="365760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bue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30320" y="289548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bar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35240" y="48769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bon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38680" y="2362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90920" y="43815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28960" y="2239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inter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calamiento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90920" y="3200400"/>
            <a:ext cx="990360" cy="3124080"/>
            <a:chOff x="2590920" y="3200400"/>
            <a:chExt cx="990360" cy="3124080"/>
          </a:xfrm>
        </p:grpSpPr>
        <p:sp>
          <p:nvSpPr>
            <p:cNvPr id="409" name=""/>
            <p:cNvSpPr/>
            <p:nvPr/>
          </p:nvSpPr>
          <p:spPr>
            <a:xfrm>
              <a:off x="2590920" y="320040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0920" y="4038480"/>
              <a:ext cx="99036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90920" y="487692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90920" y="571500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590920" y="2362320"/>
            <a:ext cx="5867280" cy="609480"/>
            <a:chOff x="2590920" y="2362320"/>
            <a:chExt cx="5867280" cy="609480"/>
          </a:xfrm>
        </p:grpSpPr>
        <p:sp>
          <p:nvSpPr>
            <p:cNvPr id="414" name=""/>
            <p:cNvSpPr/>
            <p:nvPr/>
          </p:nvSpPr>
          <p:spPr>
            <a:xfrm>
              <a:off x="380988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0920" y="236232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2920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48520" y="236232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6748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809880" y="3200400"/>
            <a:ext cx="4648320" cy="3124080"/>
            <a:chOff x="3809880" y="3200400"/>
            <a:chExt cx="4648320" cy="3124080"/>
          </a:xfrm>
        </p:grpSpPr>
        <p:sp>
          <p:nvSpPr>
            <p:cNvPr id="420" name=""/>
            <p:cNvSpPr/>
            <p:nvPr/>
          </p:nvSpPr>
          <p:spPr>
            <a:xfrm>
              <a:off x="380988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0988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2920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2920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2920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48520" y="320040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48520" y="4038480"/>
              <a:ext cx="99036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48520" y="487692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48520" y="571500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6748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6748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6748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6748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209680" y="2139480"/>
            <a:ext cx="6775920" cy="4644000"/>
            <a:chOff x="2209680" y="2139480"/>
            <a:chExt cx="6775920" cy="4644000"/>
          </a:xfrm>
        </p:grpSpPr>
        <p:sp>
          <p:nvSpPr>
            <p:cNvPr id="437" name=""/>
            <p:cNvSpPr/>
            <p:nvPr/>
          </p:nvSpPr>
          <p:spPr>
            <a:xfrm>
              <a:off x="7453080" y="64152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00000">
              <a:off x="1627560" y="27216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90920" y="2362320"/>
              <a:ext cx="6095880" cy="403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71800" y="533412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95680" y="26668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80720" y="5410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73480" y="397656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86360" y="40528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09280" y="2743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38680" y="2362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0920" y="43815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59680" y="47386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65720" y="48150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91960" y="2239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reg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31240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conj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05120" y="40384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iscri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49528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egmentación jerárqu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5120" y="58672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ecuaciones estruc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91960" y="2239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reg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29400" y="2209680"/>
            <a:ext cx="1447920" cy="441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epe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48120" y="2209680"/>
            <a:ext cx="1447560" cy="4419720"/>
            <a:chOff x="3048120" y="2209680"/>
            <a:chExt cx="1447560" cy="4419720"/>
          </a:xfrm>
        </p:grpSpPr>
        <p:sp>
          <p:nvSpPr>
            <p:cNvPr id="477" name=""/>
            <p:cNvSpPr/>
            <p:nvPr/>
          </p:nvSpPr>
          <p:spPr>
            <a:xfrm>
              <a:off x="3048120" y="2209680"/>
              <a:ext cx="144756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8120" y="297180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8120" y="373392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48120" y="4495680"/>
              <a:ext cx="144756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48120" y="525780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8120" y="601992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495680" y="2209680"/>
            <a:ext cx="2133720" cy="4418280"/>
            <a:chOff x="4495680" y="2209680"/>
            <a:chExt cx="2133720" cy="4418280"/>
          </a:xfrm>
        </p:grpSpPr>
        <p:sp>
          <p:nvSpPr>
            <p:cNvPr id="484" name=""/>
            <p:cNvSpPr/>
            <p:nvPr/>
          </p:nvSpPr>
          <p:spPr>
            <a:xfrm>
              <a:off x="4495680" y="251460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3274920"/>
              <a:ext cx="2133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95680" y="403560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5680" y="479592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5680" y="555624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95680" y="6316560"/>
              <a:ext cx="2133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27640" y="220968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27640" y="297180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27640" y="373392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27640" y="449568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27640" y="525780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27640" y="6019920"/>
              <a:ext cx="37944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91960" y="2239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la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9400" y="2209680"/>
            <a:ext cx="1447920" cy="441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048120" y="2209680"/>
            <a:ext cx="1447560" cy="4419720"/>
            <a:chOff x="3048120" y="2209680"/>
            <a:chExt cx="1447560" cy="4419720"/>
          </a:xfrm>
        </p:grpSpPr>
        <p:sp>
          <p:nvSpPr>
            <p:cNvPr id="508" name=""/>
            <p:cNvSpPr/>
            <p:nvPr/>
          </p:nvSpPr>
          <p:spPr>
            <a:xfrm>
              <a:off x="3048120" y="2209680"/>
              <a:ext cx="144756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48120" y="297180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48120" y="373392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48120" y="4495680"/>
              <a:ext cx="144756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8120" y="525780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8120" y="601992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95680" y="2209680"/>
            <a:ext cx="2133720" cy="4418280"/>
            <a:chOff x="4495680" y="2209680"/>
            <a:chExt cx="2133720" cy="4418280"/>
          </a:xfrm>
        </p:grpSpPr>
        <p:sp>
          <p:nvSpPr>
            <p:cNvPr id="515" name=""/>
            <p:cNvSpPr/>
            <p:nvPr/>
          </p:nvSpPr>
          <p:spPr>
            <a:xfrm>
              <a:off x="4495680" y="251460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95680" y="3274920"/>
              <a:ext cx="2133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95680" y="403560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95680" y="479592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95680" y="5556240"/>
              <a:ext cx="2133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6316560"/>
              <a:ext cx="2133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27640" y="220968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27640" y="297180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27640" y="373392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27640" y="449568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27640" y="525780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27640" y="6019920"/>
              <a:ext cx="37944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600200" y="2133720"/>
            <a:ext cx="7543800" cy="4717800"/>
            <a:chOff x="1600200" y="2133720"/>
            <a:chExt cx="7543800" cy="4717800"/>
          </a:xfrm>
        </p:grpSpPr>
        <p:sp>
          <p:nvSpPr>
            <p:cNvPr id="528" name=""/>
            <p:cNvSpPr/>
            <p:nvPr/>
          </p:nvSpPr>
          <p:spPr>
            <a:xfrm>
              <a:off x="1600200" y="2133720"/>
              <a:ext cx="7543800" cy="4717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29400" y="2209680"/>
              <a:ext cx="1447920" cy="441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epend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8120" y="3733920"/>
              <a:ext cx="14475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4495680"/>
              <a:ext cx="144756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Independient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84840" y="3886200"/>
              <a:ext cx="387360" cy="608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5680" y="4038480"/>
              <a:ext cx="2133720" cy="381240"/>
            </a:xfrm>
            <a:custGeom>
              <a:avLst/>
              <a:gdLst/>
              <a:ahLst/>
              <a:rect l="l" t="t" r="r" b="b"/>
              <a:pathLst>
                <a:path w="1344" h="240">
                  <a:moveTo>
                    <a:pt x="0" y="0"/>
                  </a:moveTo>
                  <a:lnTo>
                    <a:pt x="624" y="0"/>
                  </a:lnTo>
                  <a:lnTo>
                    <a:pt x="624" y="240"/>
                  </a:lnTo>
                  <a:lnTo>
                    <a:pt x="1344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495680" y="4419720"/>
              <a:ext cx="2133720" cy="380880"/>
            </a:xfrm>
            <a:custGeom>
              <a:avLst/>
              <a:gdLst/>
              <a:ahLst/>
              <a:rect l="l" t="t" r="r" b="b"/>
              <a:pathLst>
                <a:path w="1344" h="240">
                  <a:moveTo>
                    <a:pt x="0" y="0"/>
                  </a:moveTo>
                  <a:lnTo>
                    <a:pt x="624" y="0"/>
                  </a:lnTo>
                  <a:lnTo>
                    <a:pt x="624" y="240"/>
                  </a:lnTo>
                  <a:lnTo>
                    <a:pt x="1344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91960" y="2239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conj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666880" y="3048120"/>
            <a:ext cx="1447920" cy="2133360"/>
            <a:chOff x="2666880" y="3048120"/>
            <a:chExt cx="1447920" cy="2133360"/>
          </a:xfrm>
        </p:grpSpPr>
        <p:sp>
          <p:nvSpPr>
            <p:cNvPr id="546" name=""/>
            <p:cNvSpPr/>
            <p:nvPr/>
          </p:nvSpPr>
          <p:spPr>
            <a:xfrm>
              <a:off x="2666880" y="3048120"/>
              <a:ext cx="14479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Atribut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66880" y="3809880"/>
              <a:ext cx="14479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Nive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66880" y="4572000"/>
              <a:ext cx="14479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Nive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254120" y="3048120"/>
            <a:ext cx="1918080" cy="2895480"/>
            <a:chOff x="4254120" y="3048120"/>
            <a:chExt cx="1918080" cy="2895480"/>
          </a:xfrm>
        </p:grpSpPr>
        <p:sp>
          <p:nvSpPr>
            <p:cNvPr id="550" name=""/>
            <p:cNvSpPr/>
            <p:nvPr/>
          </p:nvSpPr>
          <p:spPr>
            <a:xfrm>
              <a:off x="4724280" y="3048120"/>
              <a:ext cx="14479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Atribut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24280" y="3809880"/>
              <a:ext cx="14479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Nive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24280" y="4572000"/>
              <a:ext cx="14479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Nivel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4280" y="5334120"/>
              <a:ext cx="14479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Nive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4120" y="3048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311520" y="3048120"/>
            <a:ext cx="1918080" cy="2133360"/>
            <a:chOff x="6311520" y="3048120"/>
            <a:chExt cx="1918080" cy="2133360"/>
          </a:xfrm>
        </p:grpSpPr>
        <p:sp>
          <p:nvSpPr>
            <p:cNvPr id="556" name=""/>
            <p:cNvSpPr/>
            <p:nvPr/>
          </p:nvSpPr>
          <p:spPr>
            <a:xfrm>
              <a:off x="6781680" y="3048120"/>
              <a:ext cx="14479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Atribut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81680" y="3809880"/>
              <a:ext cx="14479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Nive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81680" y="4572000"/>
              <a:ext cx="14479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Nive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11520" y="3048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133720" y="2362320"/>
            <a:ext cx="6629400" cy="3733560"/>
            <a:chOff x="2133720" y="2362320"/>
            <a:chExt cx="6629400" cy="3733560"/>
          </a:xfrm>
        </p:grpSpPr>
        <p:sp>
          <p:nvSpPr>
            <p:cNvPr id="561" name=""/>
            <p:cNvSpPr/>
            <p:nvPr/>
          </p:nvSpPr>
          <p:spPr>
            <a:xfrm>
              <a:off x="2133720" y="2362320"/>
              <a:ext cx="6629400" cy="3733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10040" y="3048120"/>
              <a:ext cx="9903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Atribut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10040" y="3657600"/>
              <a:ext cx="9903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Atribut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10040" y="4267080"/>
              <a:ext cx="9903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Atribut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30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30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530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02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102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102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674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674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74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246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246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246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818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818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818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390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90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390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962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62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962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34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534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534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106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106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06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678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678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678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250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250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50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2240" y="30481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2240" y="365760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2240" y="426708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10040" y="2438280"/>
              <a:ext cx="9903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530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02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74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246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818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390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62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534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106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678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50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82240" y="2438280"/>
              <a:ext cx="3045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209680" y="4952880"/>
            <a:ext cx="6476760" cy="1067040"/>
            <a:chOff x="2209680" y="4952880"/>
            <a:chExt cx="6476760" cy="1067040"/>
          </a:xfrm>
        </p:grpSpPr>
        <p:sp>
          <p:nvSpPr>
            <p:cNvPr id="615" name=""/>
            <p:cNvSpPr/>
            <p:nvPr/>
          </p:nvSpPr>
          <p:spPr>
            <a:xfrm>
              <a:off x="2209680" y="5562720"/>
              <a:ext cx="99036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526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526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8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242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814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386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58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530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102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674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246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81880" y="5562720"/>
              <a:ext cx="304560" cy="457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Franklin Gothic Medium Cond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098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670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242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814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386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958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102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674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246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1880" y="4952880"/>
              <a:ext cx="304560" cy="457200"/>
            </a:xfrm>
            <a:prstGeom prst="downArrow">
              <a:avLst>
                <a:gd name="adj1" fmla="val 50000"/>
                <a:gd name="adj2" fmla="val 5837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9900"/>
                  </a:solidFill>
                  <a:latin typeface="Franklin Gothic Medium Cond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91960" y="2239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iscri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2590920" y="2362320"/>
            <a:ext cx="5867280" cy="609480"/>
            <a:chOff x="2590920" y="2362320"/>
            <a:chExt cx="5867280" cy="609480"/>
          </a:xfrm>
        </p:grpSpPr>
        <p:sp>
          <p:nvSpPr>
            <p:cNvPr id="651" name=""/>
            <p:cNvSpPr/>
            <p:nvPr/>
          </p:nvSpPr>
          <p:spPr>
            <a:xfrm>
              <a:off x="342900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67080" y="2362320"/>
              <a:ext cx="60984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0552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4360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48720" y="23623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81680" y="2362320"/>
              <a:ext cx="60984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90920" y="23623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429000" y="3200400"/>
            <a:ext cx="5029200" cy="3352680"/>
            <a:chOff x="3429000" y="3200400"/>
            <a:chExt cx="5029200" cy="3352680"/>
          </a:xfrm>
        </p:grpSpPr>
        <p:sp>
          <p:nvSpPr>
            <p:cNvPr id="659" name=""/>
            <p:cNvSpPr/>
            <p:nvPr/>
          </p:nvSpPr>
          <p:spPr>
            <a:xfrm>
              <a:off x="34290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670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055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487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16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290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670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55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436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487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816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290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670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436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487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816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290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670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055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436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487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816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590920" y="3200400"/>
            <a:ext cx="609480" cy="3352680"/>
            <a:chOff x="2590920" y="3200400"/>
            <a:chExt cx="609480" cy="3352680"/>
          </a:xfrm>
        </p:grpSpPr>
        <p:sp>
          <p:nvSpPr>
            <p:cNvPr id="684" name=""/>
            <p:cNvSpPr/>
            <p:nvPr/>
          </p:nvSpPr>
          <p:spPr>
            <a:xfrm>
              <a:off x="2590920" y="32004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90920" y="4038480"/>
              <a:ext cx="6094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90920" y="48769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90920" y="59436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2133720" y="3124080"/>
            <a:ext cx="6400800" cy="3505320"/>
            <a:chOff x="2133720" y="3124080"/>
            <a:chExt cx="6400800" cy="3505320"/>
          </a:xfrm>
        </p:grpSpPr>
        <p:sp>
          <p:nvSpPr>
            <p:cNvPr id="689" name=""/>
            <p:cNvSpPr/>
            <p:nvPr/>
          </p:nvSpPr>
          <p:spPr>
            <a:xfrm>
              <a:off x="2133720" y="3124080"/>
              <a:ext cx="6400800" cy="16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290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670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055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360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848720" y="32004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781680" y="32004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290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670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055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4360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48720" y="4038480"/>
              <a:ext cx="60948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81680" y="4038480"/>
              <a:ext cx="60984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90920" y="32004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90920" y="4038480"/>
              <a:ext cx="6094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33720" y="4800600"/>
              <a:ext cx="6400800" cy="1828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290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2670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055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4360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48720" y="487692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81680" y="487692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90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670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055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4360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848720" y="5943600"/>
              <a:ext cx="60948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81680" y="5943600"/>
              <a:ext cx="60984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90920" y="48769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90920" y="59436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91960" y="2239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egmentación jerárqu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86400" y="2286000"/>
            <a:ext cx="14479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Muestr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619440" y="2895480"/>
            <a:ext cx="5181840" cy="1067040"/>
            <a:chOff x="3619440" y="2895480"/>
            <a:chExt cx="5181840" cy="1067040"/>
          </a:xfrm>
        </p:grpSpPr>
        <p:sp>
          <p:nvSpPr>
            <p:cNvPr id="731" name=""/>
            <p:cNvSpPr/>
            <p:nvPr/>
          </p:nvSpPr>
          <p:spPr>
            <a:xfrm>
              <a:off x="3619440" y="3352680"/>
              <a:ext cx="129564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Segment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62720" y="3352680"/>
              <a:ext cx="12952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Segment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05640" y="3352680"/>
              <a:ext cx="129564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Segment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4" name=""/>
            <p:cNvCxnSpPr>
              <a:stCxn id="729" idx="2"/>
              <a:endCxn id="731" idx="0"/>
            </p:cNvCxnSpPr>
            <p:nvPr/>
          </p:nvCxnSpPr>
          <p:spPr>
            <a:xfrm rot="5400000">
              <a:off x="5009400" y="2152440"/>
              <a:ext cx="457920" cy="19440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35" name=""/>
            <p:cNvCxnSpPr>
              <a:stCxn id="729" idx="2"/>
              <a:endCxn id="732" idx="0"/>
            </p:cNvCxnSpPr>
            <p:nvPr/>
          </p:nvCxnSpPr>
          <p:spPr>
            <a:xfrm flipV="1" rot="10800000">
              <a:off x="6209640" y="289512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36" name=""/>
            <p:cNvCxnSpPr>
              <a:stCxn id="729" idx="2"/>
              <a:endCxn id="733" idx="0"/>
            </p:cNvCxnSpPr>
            <p:nvPr/>
          </p:nvCxnSpPr>
          <p:spPr>
            <a:xfrm flipH="1" rot="16200000">
              <a:off x="6952320" y="2152440"/>
              <a:ext cx="457920" cy="19436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sp>
        <p:nvSpPr>
          <p:cNvPr id="737" name=""/>
          <p:cNvSpPr/>
          <p:nvPr/>
        </p:nvSpPr>
        <p:spPr>
          <a:xfrm>
            <a:off x="1905120" y="3352680"/>
            <a:ext cx="129528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Franklin Gothic Medium Cond"/>
              </a:rPr>
              <a:t>V. Predictor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429000" y="3962520"/>
            <a:ext cx="5562720" cy="1066680"/>
            <a:chOff x="3429000" y="3962520"/>
            <a:chExt cx="5562720" cy="1066680"/>
          </a:xfrm>
        </p:grpSpPr>
        <p:sp>
          <p:nvSpPr>
            <p:cNvPr id="739" name=""/>
            <p:cNvSpPr/>
            <p:nvPr/>
          </p:nvSpPr>
          <p:spPr>
            <a:xfrm>
              <a:off x="342900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3848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4832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1520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2468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34520" y="441972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7" name=""/>
            <p:cNvCxnSpPr>
              <a:stCxn id="731" idx="2"/>
              <a:endCxn id="739" idx="0"/>
            </p:cNvCxnSpPr>
            <p:nvPr/>
          </p:nvCxnSpPr>
          <p:spPr>
            <a:xfrm rot="5400000">
              <a:off x="3732840" y="3886200"/>
              <a:ext cx="457920" cy="6102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48" name=""/>
            <p:cNvCxnSpPr>
              <a:stCxn id="731" idx="2"/>
              <a:endCxn id="740" idx="0"/>
            </p:cNvCxnSpPr>
            <p:nvPr/>
          </p:nvCxnSpPr>
          <p:spPr>
            <a:xfrm flipV="1" rot="10800000">
              <a:off x="4266360" y="396216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49" name=""/>
            <p:cNvCxnSpPr>
              <a:stCxn id="731" idx="2"/>
              <a:endCxn id="741" idx="0"/>
            </p:cNvCxnSpPr>
            <p:nvPr/>
          </p:nvCxnSpPr>
          <p:spPr>
            <a:xfrm flipH="1" rot="16200000">
              <a:off x="4343400" y="3885840"/>
              <a:ext cx="457920" cy="61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50" name=""/>
            <p:cNvCxnSpPr>
              <a:stCxn id="732" idx="2"/>
              <a:endCxn id="742" idx="0"/>
            </p:cNvCxnSpPr>
            <p:nvPr/>
          </p:nvCxnSpPr>
          <p:spPr>
            <a:xfrm rot="5400000">
              <a:off x="5771520" y="3981600"/>
              <a:ext cx="457920" cy="4197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51" name=""/>
            <p:cNvCxnSpPr>
              <a:stCxn id="732" idx="2"/>
              <a:endCxn id="743" idx="0"/>
            </p:cNvCxnSpPr>
            <p:nvPr/>
          </p:nvCxnSpPr>
          <p:spPr>
            <a:xfrm flipH="1" rot="16200000">
              <a:off x="6191280" y="3981240"/>
              <a:ext cx="457920" cy="4197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52" name=""/>
            <p:cNvCxnSpPr>
              <a:stCxn id="733" idx="2"/>
              <a:endCxn id="744" idx="0"/>
            </p:cNvCxnSpPr>
            <p:nvPr/>
          </p:nvCxnSpPr>
          <p:spPr>
            <a:xfrm rot="5400000">
              <a:off x="7619040" y="3886200"/>
              <a:ext cx="457920" cy="6102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53" name=""/>
            <p:cNvCxnSpPr>
              <a:stCxn id="733" idx="2"/>
              <a:endCxn id="745" idx="0"/>
            </p:cNvCxnSpPr>
            <p:nvPr/>
          </p:nvCxnSpPr>
          <p:spPr>
            <a:xfrm flipV="1" rot="10800000">
              <a:off x="8152560" y="396216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54" name=""/>
            <p:cNvCxnSpPr>
              <a:stCxn id="733" idx="2"/>
              <a:endCxn id="746" idx="0"/>
            </p:cNvCxnSpPr>
            <p:nvPr/>
          </p:nvCxnSpPr>
          <p:spPr>
            <a:xfrm flipH="1" rot="16200000">
              <a:off x="8229600" y="3885840"/>
              <a:ext cx="457920" cy="61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sp>
        <p:nvSpPr>
          <p:cNvPr id="755" name=""/>
          <p:cNvSpPr/>
          <p:nvPr/>
        </p:nvSpPr>
        <p:spPr>
          <a:xfrm>
            <a:off x="1905120" y="4419720"/>
            <a:ext cx="129528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Franklin Gothic Medium Cond"/>
              </a:rPr>
              <a:t>V. Predictor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486400"/>
            <a:ext cx="129528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Franklin Gothic Medium Cond"/>
              </a:rPr>
              <a:t>V. Predictor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4343400" y="5029200"/>
            <a:ext cx="2819520" cy="1066680"/>
            <a:chOff x="4343400" y="5029200"/>
            <a:chExt cx="2819520" cy="1066680"/>
          </a:xfrm>
        </p:grpSpPr>
        <p:sp>
          <p:nvSpPr>
            <p:cNvPr id="758" name=""/>
            <p:cNvSpPr/>
            <p:nvPr/>
          </p:nvSpPr>
          <p:spPr>
            <a:xfrm>
              <a:off x="4343400" y="548640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1.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52880" y="5486400"/>
              <a:ext cx="4572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1.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0" name=""/>
            <p:cNvCxnSpPr>
              <a:stCxn id="741" idx="2"/>
              <a:endCxn id="758" idx="0"/>
            </p:cNvCxnSpPr>
            <p:nvPr/>
          </p:nvCxnSpPr>
          <p:spPr>
            <a:xfrm rot="5400000">
              <a:off x="4494960" y="5105160"/>
              <a:ext cx="457920" cy="3056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61" name=""/>
            <p:cNvCxnSpPr>
              <a:stCxn id="741" idx="2"/>
              <a:endCxn id="759" idx="0"/>
            </p:cNvCxnSpPr>
            <p:nvPr/>
          </p:nvCxnSpPr>
          <p:spPr>
            <a:xfrm flipH="1" rot="16200000">
              <a:off x="4800600" y="5105160"/>
              <a:ext cx="457920" cy="3052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762" name=""/>
            <p:cNvSpPr/>
            <p:nvPr/>
          </p:nvSpPr>
          <p:spPr>
            <a:xfrm>
              <a:off x="6095880" y="5410080"/>
              <a:ext cx="45720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1.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5720" y="5410080"/>
              <a:ext cx="45720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1.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4" name=""/>
            <p:cNvCxnSpPr>
              <a:stCxn id="743" idx="2"/>
              <a:endCxn id="762" idx="0"/>
            </p:cNvCxnSpPr>
            <p:nvPr/>
          </p:nvCxnSpPr>
          <p:spPr>
            <a:xfrm rot="5400000">
              <a:off x="6285600" y="5067000"/>
              <a:ext cx="381600" cy="3056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65" name=""/>
            <p:cNvCxnSpPr>
              <a:stCxn id="743" idx="2"/>
              <a:endCxn id="763" idx="0"/>
            </p:cNvCxnSpPr>
            <p:nvPr/>
          </p:nvCxnSpPr>
          <p:spPr>
            <a:xfrm flipH="1" rot="16200000">
              <a:off x="6590520" y="5067000"/>
              <a:ext cx="381600" cy="3056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91960" y="2239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Ecuaciones Estruc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2895480" y="2286000"/>
            <a:ext cx="457200" cy="4343400"/>
            <a:chOff x="2895480" y="2286000"/>
            <a:chExt cx="457200" cy="4343400"/>
          </a:xfrm>
        </p:grpSpPr>
        <p:sp>
          <p:nvSpPr>
            <p:cNvPr id="777" name=""/>
            <p:cNvSpPr/>
            <p:nvPr/>
          </p:nvSpPr>
          <p:spPr>
            <a:xfrm>
              <a:off x="2895480" y="2286000"/>
              <a:ext cx="457200" cy="380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95480" y="2743200"/>
              <a:ext cx="457200" cy="380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95480" y="3200400"/>
              <a:ext cx="457200" cy="380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95480" y="3809880"/>
              <a:ext cx="457200" cy="38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95480" y="4267080"/>
              <a:ext cx="457200" cy="38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9548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95480" y="5334120"/>
              <a:ext cx="457200" cy="380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95480" y="5791320"/>
              <a:ext cx="457200" cy="380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95480" y="6248520"/>
              <a:ext cx="457200" cy="380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Franklin Gothic Medium Cond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352320" y="2476080"/>
            <a:ext cx="1905480" cy="3963240"/>
            <a:chOff x="3352320" y="2476080"/>
            <a:chExt cx="1905480" cy="3963240"/>
          </a:xfrm>
        </p:grpSpPr>
        <p:sp>
          <p:nvSpPr>
            <p:cNvPr id="787" name=""/>
            <p:cNvSpPr/>
            <p:nvPr/>
          </p:nvSpPr>
          <p:spPr>
            <a:xfrm>
              <a:off x="3962520" y="2476440"/>
              <a:ext cx="1295280" cy="914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Actitud cogni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62520" y="4000680"/>
              <a:ext cx="1295280" cy="914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Actitud a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62520" y="5524560"/>
              <a:ext cx="1295280" cy="914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Actitud cona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0" name=""/>
            <p:cNvCxnSpPr>
              <a:stCxn id="787" idx="2"/>
              <a:endCxn id="777" idx="3"/>
            </p:cNvCxnSpPr>
            <p:nvPr/>
          </p:nvCxnSpPr>
          <p:spPr>
            <a:xfrm flipH="1" flipV="1">
              <a:off x="3352320" y="2476080"/>
              <a:ext cx="6105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1" name=""/>
            <p:cNvCxnSpPr>
              <a:stCxn id="787" idx="2"/>
              <a:endCxn id="778" idx="3"/>
            </p:cNvCxnSpPr>
            <p:nvPr/>
          </p:nvCxnSpPr>
          <p:spPr>
            <a:xfrm flipH="1">
              <a:off x="3352320" y="2933280"/>
              <a:ext cx="610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2" name=""/>
            <p:cNvCxnSpPr>
              <a:stCxn id="787" idx="2"/>
              <a:endCxn id="779" idx="3"/>
            </p:cNvCxnSpPr>
            <p:nvPr/>
          </p:nvCxnSpPr>
          <p:spPr>
            <a:xfrm flipH="1">
              <a:off x="3352320" y="2933640"/>
              <a:ext cx="6105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3" name=""/>
            <p:cNvCxnSpPr>
              <a:stCxn id="788" idx="2"/>
              <a:endCxn id="780" idx="3"/>
            </p:cNvCxnSpPr>
            <p:nvPr/>
          </p:nvCxnSpPr>
          <p:spPr>
            <a:xfrm flipH="1" flipV="1">
              <a:off x="3352320" y="4000320"/>
              <a:ext cx="6105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4" name=""/>
            <p:cNvCxnSpPr>
              <a:stCxn id="788" idx="2"/>
              <a:endCxn id="781" idx="3"/>
            </p:cNvCxnSpPr>
            <p:nvPr/>
          </p:nvCxnSpPr>
          <p:spPr>
            <a:xfrm flipH="1">
              <a:off x="3352320" y="4457520"/>
              <a:ext cx="610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5" name=""/>
            <p:cNvCxnSpPr>
              <a:stCxn id="788" idx="2"/>
              <a:endCxn id="782" idx="3"/>
            </p:cNvCxnSpPr>
            <p:nvPr/>
          </p:nvCxnSpPr>
          <p:spPr>
            <a:xfrm flipH="1">
              <a:off x="3352320" y="4457880"/>
              <a:ext cx="6105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6" name=""/>
            <p:cNvCxnSpPr>
              <a:stCxn id="789" idx="2"/>
              <a:endCxn id="783" idx="3"/>
            </p:cNvCxnSpPr>
            <p:nvPr/>
          </p:nvCxnSpPr>
          <p:spPr>
            <a:xfrm flipH="1" flipV="1">
              <a:off x="3352320" y="5524200"/>
              <a:ext cx="6105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7" name=""/>
            <p:cNvCxnSpPr>
              <a:stCxn id="789" idx="2"/>
              <a:endCxn id="784" idx="3"/>
            </p:cNvCxnSpPr>
            <p:nvPr/>
          </p:nvCxnSpPr>
          <p:spPr>
            <a:xfrm flipH="1">
              <a:off x="3352320" y="5981400"/>
              <a:ext cx="610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798" name=""/>
            <p:cNvCxnSpPr>
              <a:stCxn id="789" idx="2"/>
              <a:endCxn id="785" idx="3"/>
            </p:cNvCxnSpPr>
            <p:nvPr/>
          </p:nvCxnSpPr>
          <p:spPr>
            <a:xfrm flipH="1">
              <a:off x="3352320" y="5981760"/>
              <a:ext cx="6105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grpSp>
        <p:nvGrpSpPr>
          <p:cNvPr id="799" name=""/>
          <p:cNvGrpSpPr/>
          <p:nvPr/>
        </p:nvGrpSpPr>
        <p:grpSpPr>
          <a:xfrm>
            <a:off x="5068800" y="3257640"/>
            <a:ext cx="1941480" cy="2400120"/>
            <a:chOff x="5068800" y="3257640"/>
            <a:chExt cx="1941480" cy="2400120"/>
          </a:xfrm>
        </p:grpSpPr>
        <p:sp>
          <p:nvSpPr>
            <p:cNvPr id="800" name=""/>
            <p:cNvSpPr/>
            <p:nvPr/>
          </p:nvSpPr>
          <p:spPr>
            <a:xfrm>
              <a:off x="5715000" y="4000680"/>
              <a:ext cx="1295280" cy="914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1" name=""/>
            <p:cNvCxnSpPr>
              <a:stCxn id="787" idx="5"/>
              <a:endCxn id="800" idx="1"/>
            </p:cNvCxnSpPr>
            <p:nvPr/>
          </p:nvCxnSpPr>
          <p:spPr>
            <a:xfrm>
              <a:off x="5068800" y="3257640"/>
              <a:ext cx="83592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02" name=""/>
            <p:cNvCxnSpPr>
              <a:stCxn id="788" idx="6"/>
              <a:endCxn id="800" idx="2"/>
            </p:cNvCxnSpPr>
            <p:nvPr/>
          </p:nvCxnSpPr>
          <p:spPr>
            <a:xfrm>
              <a:off x="5257800" y="44575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03" name=""/>
            <p:cNvCxnSpPr>
              <a:stCxn id="789" idx="7"/>
              <a:endCxn id="800" idx="3"/>
            </p:cNvCxnSpPr>
            <p:nvPr/>
          </p:nvCxnSpPr>
          <p:spPr>
            <a:xfrm flipV="1">
              <a:off x="5068800" y="4781160"/>
              <a:ext cx="83592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grpSp>
        <p:nvGrpSpPr>
          <p:cNvPr id="804" name=""/>
          <p:cNvGrpSpPr/>
          <p:nvPr/>
        </p:nvGrpSpPr>
        <p:grpSpPr>
          <a:xfrm>
            <a:off x="5257440" y="4000680"/>
            <a:ext cx="3505680" cy="1981080"/>
            <a:chOff x="5257440" y="4000680"/>
            <a:chExt cx="3505680" cy="1981080"/>
          </a:xfrm>
        </p:grpSpPr>
        <p:sp>
          <p:nvSpPr>
            <p:cNvPr id="805" name=""/>
            <p:cNvSpPr/>
            <p:nvPr/>
          </p:nvSpPr>
          <p:spPr>
            <a:xfrm>
              <a:off x="7467480" y="4000680"/>
              <a:ext cx="1295640" cy="914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Prefer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6" name=""/>
            <p:cNvCxnSpPr>
              <a:stCxn id="800" idx="6"/>
              <a:endCxn id="805" idx="2"/>
            </p:cNvCxnSpPr>
            <p:nvPr/>
          </p:nvCxnSpPr>
          <p:spPr>
            <a:xfrm>
              <a:off x="7010280" y="44575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07" name=""/>
            <p:cNvCxnSpPr>
              <a:stCxn id="789" idx="6"/>
              <a:endCxn id="805" idx="3"/>
            </p:cNvCxnSpPr>
            <p:nvPr/>
          </p:nvCxnSpPr>
          <p:spPr>
            <a:xfrm flipV="1">
              <a:off x="5257440" y="4781160"/>
              <a:ext cx="2399400" cy="120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grpSp>
        <p:nvGrpSpPr>
          <p:cNvPr id="808" name=""/>
          <p:cNvGrpSpPr/>
          <p:nvPr/>
        </p:nvGrpSpPr>
        <p:grpSpPr>
          <a:xfrm>
            <a:off x="2133720" y="2286000"/>
            <a:ext cx="762120" cy="4343400"/>
            <a:chOff x="2133720" y="2286000"/>
            <a:chExt cx="762120" cy="4343400"/>
          </a:xfrm>
        </p:grpSpPr>
        <p:sp>
          <p:nvSpPr>
            <p:cNvPr id="809" name=""/>
            <p:cNvSpPr/>
            <p:nvPr/>
          </p:nvSpPr>
          <p:spPr>
            <a:xfrm>
              <a:off x="2133720" y="2286000"/>
              <a:ext cx="45720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33720" y="2743200"/>
              <a:ext cx="45720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33720" y="3200400"/>
              <a:ext cx="45720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33720" y="3809880"/>
              <a:ext cx="457200" cy="381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33720" y="4267080"/>
              <a:ext cx="457200" cy="381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133720" y="4724280"/>
              <a:ext cx="457200" cy="381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33720" y="5334120"/>
              <a:ext cx="45720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33720" y="5791320"/>
              <a:ext cx="45720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33720" y="6248520"/>
              <a:ext cx="45720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8" name=""/>
            <p:cNvCxnSpPr>
              <a:stCxn id="809" idx="6"/>
              <a:endCxn id="777" idx="1"/>
            </p:cNvCxnSpPr>
            <p:nvPr/>
          </p:nvCxnSpPr>
          <p:spPr>
            <a:xfrm>
              <a:off x="2590920" y="247608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19" name=""/>
            <p:cNvCxnSpPr>
              <a:stCxn id="810" idx="6"/>
              <a:endCxn id="778" idx="1"/>
            </p:cNvCxnSpPr>
            <p:nvPr/>
          </p:nvCxnSpPr>
          <p:spPr>
            <a:xfrm>
              <a:off x="2590920" y="293328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20" name=""/>
            <p:cNvCxnSpPr>
              <a:stCxn id="811" idx="6"/>
              <a:endCxn id="779" idx="1"/>
            </p:cNvCxnSpPr>
            <p:nvPr/>
          </p:nvCxnSpPr>
          <p:spPr>
            <a:xfrm>
              <a:off x="2590920" y="339048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21" name=""/>
            <p:cNvCxnSpPr>
              <a:stCxn id="812" idx="6"/>
              <a:endCxn id="780" idx="1"/>
            </p:cNvCxnSpPr>
            <p:nvPr/>
          </p:nvCxnSpPr>
          <p:spPr>
            <a:xfrm>
              <a:off x="2590920" y="400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22" name=""/>
            <p:cNvCxnSpPr>
              <a:stCxn id="813" idx="6"/>
              <a:endCxn id="781" idx="1"/>
            </p:cNvCxnSpPr>
            <p:nvPr/>
          </p:nvCxnSpPr>
          <p:spPr>
            <a:xfrm>
              <a:off x="2590920" y="44575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23" name=""/>
            <p:cNvCxnSpPr>
              <a:stCxn id="814" idx="6"/>
              <a:endCxn id="782" idx="1"/>
            </p:cNvCxnSpPr>
            <p:nvPr/>
          </p:nvCxnSpPr>
          <p:spPr>
            <a:xfrm>
              <a:off x="2590920" y="49147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24" name=""/>
            <p:cNvCxnSpPr>
              <a:stCxn id="815" idx="6"/>
              <a:endCxn id="783" idx="1"/>
            </p:cNvCxnSpPr>
            <p:nvPr/>
          </p:nvCxnSpPr>
          <p:spPr>
            <a:xfrm>
              <a:off x="2590920" y="552420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25" name=""/>
            <p:cNvCxnSpPr>
              <a:stCxn id="816" idx="6"/>
              <a:endCxn id="784" idx="1"/>
            </p:cNvCxnSpPr>
            <p:nvPr/>
          </p:nvCxnSpPr>
          <p:spPr>
            <a:xfrm>
              <a:off x="2590920" y="598140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826" name=""/>
            <p:cNvCxnSpPr>
              <a:stCxn id="817" idx="6"/>
              <a:endCxn id="785" idx="1"/>
            </p:cNvCxnSpPr>
            <p:nvPr/>
          </p:nvCxnSpPr>
          <p:spPr>
            <a:xfrm>
              <a:off x="2590920" y="643860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752480"/>
            <a:ext cx="4724280" cy="28195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El Análi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Multi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en la Investig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4221000"/>
            <a:ext cx="1600200" cy="2410200"/>
            <a:chOff x="0" y="4221000"/>
            <a:chExt cx="1600200" cy="2410200"/>
          </a:xfrm>
        </p:grpSpPr>
        <p:sp>
          <p:nvSpPr>
            <p:cNvPr id="49" name=""/>
            <p:cNvSpPr/>
            <p:nvPr/>
          </p:nvSpPr>
          <p:spPr>
            <a:xfrm>
              <a:off x="0" y="422100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for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7545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concepto y clas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7760" y="22392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Aplicaciones del análisis multi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0" y="4754520"/>
            <a:ext cx="1600200" cy="810000"/>
            <a:chOff x="0" y="4754520"/>
            <a:chExt cx="1600200" cy="810000"/>
          </a:xfrm>
        </p:grpSpPr>
        <p:sp>
          <p:nvSpPr>
            <p:cNvPr id="83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0" y="4754520"/>
              <a:ext cx="1600200" cy="459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concepto y clas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905120" y="22096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las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5120" y="31240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x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905120" y="40384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Prede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05120" y="49528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ontr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05120" y="58672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sarrollar metodologías de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72200" y="1219320"/>
            <a:ext cx="2971800" cy="5410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400800" y="1295280"/>
            <a:ext cx="2743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400800" y="2666880"/>
            <a:ext cx="2743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00800" y="4038480"/>
            <a:ext cx="2743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00800" y="5410080"/>
            <a:ext cx="2743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6960" y="223920"/>
            <a:ext cx="52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Fases en la aplicación del análisis multi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0" y="4754520"/>
            <a:ext cx="1600200" cy="810000"/>
            <a:chOff x="0" y="4754520"/>
            <a:chExt cx="1600200" cy="810000"/>
          </a:xfrm>
        </p:grpSpPr>
        <p:sp>
          <p:nvSpPr>
            <p:cNvPr id="860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4754520"/>
              <a:ext cx="1600200" cy="459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concepto y clas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057400" y="1295280"/>
            <a:ext cx="7086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Fase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057400" y="2666880"/>
            <a:ext cx="7086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Fase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57400" y="4038480"/>
            <a:ext cx="7086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Contraste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057400" y="5410080"/>
            <a:ext cx="7086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Interpretación y valoración del aná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 Cond"/>
              </a:rPr>
              <a:t>Investigación Preli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438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 Cond"/>
              </a:rPr>
              <a:t>Diseño de la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581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 Cond"/>
              </a:rPr>
              <a:t>Implantación de la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981080"/>
            <a:ext cx="333360" cy="457200"/>
          </a:xfrm>
          <a:prstGeom prst="downArrow">
            <a:avLst>
              <a:gd name="adj1" fmla="val 55241"/>
              <a:gd name="adj2" fmla="val 5952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124080"/>
            <a:ext cx="333360" cy="457200"/>
          </a:xfrm>
          <a:prstGeom prst="downArrow">
            <a:avLst>
              <a:gd name="adj1" fmla="val 55241"/>
              <a:gd name="adj2" fmla="val 5952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267080"/>
            <a:ext cx="7238880" cy="1344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0" bIns="162000" anchor="t">
            <a:spAutoFit/>
          </a:bodyPr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Trabajo de campo y recolección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Procesamiento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Análisis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Interpretación de los resultados: conclusiones y recomend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981080"/>
            <a:ext cx="7238880" cy="16131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0" bIns="162000" anchor="t">
            <a:spAutoFit/>
          </a:bodyPr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Franklin Gothic Medium Cond"/>
              </a:rPr>
              <a:t>Revisión del conocimiento ex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Franklin Gothic Medium Cond"/>
              </a:rPr>
              <a:t>Concrección de los objetivos de inves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Franklin Gothic Medium Cond"/>
              </a:rPr>
              <a:t>Formulación de hipótesi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Franklin Gothic Medium Cond"/>
              </a:rPr>
              <a:t>Delimitación del alcance y las características de la inves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Franklin Gothic Medium Cond"/>
              </a:rPr>
              <a:t>Estimación del valor de la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124080"/>
            <a:ext cx="7238880" cy="2419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0" bIns="162000" anchor="t">
            <a:spAutoFit/>
          </a:bodyPr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Determinación de necesidades de información primaria y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Definición de los medios de obtención de la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Definición del enfoque de la inves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Diseño de la táctica de inves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Desarrollo de medicione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Construcción de cuestio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Diseño de exper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 Cond"/>
              </a:rPr>
              <a:t>Diseño del plan de muest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4840" y="22392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Proceso de investigación de má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429760" y="1981080"/>
            <a:ext cx="333360" cy="1600200"/>
            <a:chOff x="8429760" y="1981080"/>
            <a:chExt cx="333360" cy="1600200"/>
          </a:xfrm>
        </p:grpSpPr>
        <p:sp>
          <p:nvSpPr>
            <p:cNvPr id="72" name=""/>
            <p:cNvSpPr/>
            <p:nvPr/>
          </p:nvSpPr>
          <p:spPr>
            <a:xfrm flipV="1">
              <a:off x="8429760" y="1981080"/>
              <a:ext cx="333360" cy="457200"/>
            </a:xfrm>
            <a:prstGeom prst="downArrow">
              <a:avLst>
                <a:gd name="adj1" fmla="val 55241"/>
                <a:gd name="adj2" fmla="val 5952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429760" y="3124080"/>
              <a:ext cx="333360" cy="457200"/>
            </a:xfrm>
            <a:prstGeom prst="downArrow">
              <a:avLst>
                <a:gd name="adj1" fmla="val 55241"/>
                <a:gd name="adj2" fmla="val 5952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1280" y="223920"/>
            <a:ext cx="52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Clasificación de las técnicas de análisi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uni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2438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bi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3581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multi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905120" y="1981080"/>
            <a:ext cx="7238880" cy="1600200"/>
            <a:chOff x="1905120" y="1981080"/>
            <a:chExt cx="7238880" cy="1600200"/>
          </a:xfrm>
        </p:grpSpPr>
        <p:sp>
          <p:nvSpPr>
            <p:cNvPr id="87" name=""/>
            <p:cNvSpPr/>
            <p:nvPr/>
          </p:nvSpPr>
          <p:spPr>
            <a:xfrm>
              <a:off x="1905120" y="1981080"/>
              <a:ext cx="7238880" cy="1600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0" bIns="162000" anchor="t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201"/>
                </a:spcBef>
                <a:spcAft>
                  <a:spcPts val="201"/>
                </a:spcAft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7800" y="251460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905120" y="3124080"/>
            <a:ext cx="7238880" cy="1600200"/>
            <a:chOff x="1905120" y="3124080"/>
            <a:chExt cx="7238880" cy="1600200"/>
          </a:xfrm>
        </p:grpSpPr>
        <p:sp>
          <p:nvSpPr>
            <p:cNvPr id="90" name=""/>
            <p:cNvSpPr/>
            <p:nvPr/>
          </p:nvSpPr>
          <p:spPr>
            <a:xfrm>
              <a:off x="1905120" y="3124080"/>
              <a:ext cx="7238880" cy="1600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0" bIns="162000" anchor="t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201"/>
                </a:spcBef>
                <a:spcAft>
                  <a:spcPts val="201"/>
                </a:spcAft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365760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2200" y="365760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1" idx="3"/>
              <a:endCxn id="92" idx="1"/>
            </p:cNvCxnSpPr>
            <p:nvPr/>
          </p:nvCxnSpPr>
          <p:spPr>
            <a:xfrm>
              <a:off x="4800600" y="3924000"/>
              <a:ext cx="13723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1905120" y="4267080"/>
            <a:ext cx="7238880" cy="2362320"/>
            <a:chOff x="1905120" y="4267080"/>
            <a:chExt cx="7238880" cy="2362320"/>
          </a:xfrm>
        </p:grpSpPr>
        <p:sp>
          <p:nvSpPr>
            <p:cNvPr id="95" name=""/>
            <p:cNvSpPr/>
            <p:nvPr/>
          </p:nvSpPr>
          <p:spPr>
            <a:xfrm>
              <a:off x="1905120" y="4267080"/>
              <a:ext cx="7238880" cy="23623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0" bIns="162000" anchor="t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201"/>
                </a:spcBef>
                <a:spcAft>
                  <a:spcPts val="201"/>
                </a:spcAft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472428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4800" y="563868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518148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0800" y="472428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0800" y="5638680"/>
              <a:ext cx="53352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6" idx="3"/>
              <a:endCxn id="98" idx="1"/>
            </p:cNvCxnSpPr>
            <p:nvPr/>
          </p:nvCxnSpPr>
          <p:spPr>
            <a:xfrm>
              <a:off x="4647960" y="4991040"/>
              <a:ext cx="61020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02" name=""/>
            <p:cNvCxnSpPr>
              <a:stCxn id="97" idx="3"/>
              <a:endCxn id="98" idx="1"/>
            </p:cNvCxnSpPr>
            <p:nvPr/>
          </p:nvCxnSpPr>
          <p:spPr>
            <a:xfrm flipV="1">
              <a:off x="4647960" y="5447880"/>
              <a:ext cx="61020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03" name=""/>
            <p:cNvCxnSpPr>
              <a:stCxn id="99" idx="1"/>
              <a:endCxn id="98" idx="3"/>
            </p:cNvCxnSpPr>
            <p:nvPr/>
          </p:nvCxnSpPr>
          <p:spPr>
            <a:xfrm flipH="1">
              <a:off x="5790600" y="4991040"/>
              <a:ext cx="61020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04" name=""/>
            <p:cNvCxnSpPr>
              <a:stCxn id="100" idx="1"/>
              <a:endCxn id="98" idx="3"/>
            </p:cNvCxnSpPr>
            <p:nvPr/>
          </p:nvCxnSpPr>
          <p:spPr>
            <a:xfrm flipH="1" flipV="1">
              <a:off x="5790600" y="5447880"/>
              <a:ext cx="61020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05" name=""/>
            <p:cNvCxnSpPr>
              <a:stCxn id="96" idx="3"/>
              <a:endCxn id="99" idx="1"/>
            </p:cNvCxnSpPr>
            <p:nvPr/>
          </p:nvCxnSpPr>
          <p:spPr>
            <a:xfrm>
              <a:off x="4648320" y="4990680"/>
              <a:ext cx="1753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06" name=""/>
            <p:cNvCxnSpPr>
              <a:stCxn id="97" idx="3"/>
              <a:endCxn id="100" idx="1"/>
            </p:cNvCxnSpPr>
            <p:nvPr/>
          </p:nvCxnSpPr>
          <p:spPr>
            <a:xfrm>
              <a:off x="4648320" y="5905080"/>
              <a:ext cx="1753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07" name=""/>
            <p:cNvCxnSpPr>
              <a:stCxn id="99" idx="2"/>
              <a:endCxn id="100" idx="0"/>
            </p:cNvCxnSpPr>
            <p:nvPr/>
          </p:nvCxnSpPr>
          <p:spPr>
            <a:xfrm>
              <a:off x="6667200" y="5257800"/>
              <a:ext cx="1080" cy="381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08" name=""/>
            <p:cNvCxnSpPr>
              <a:stCxn id="96" idx="2"/>
              <a:endCxn id="97" idx="0"/>
            </p:cNvCxnSpPr>
            <p:nvPr/>
          </p:nvCxnSpPr>
          <p:spPr>
            <a:xfrm>
              <a:off x="4381200" y="5257800"/>
              <a:ext cx="1080" cy="381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</p:grp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8600" y="22392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Criterios de clasificación de las técnicas de análisis multi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de inter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438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de 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05120" y="3124080"/>
            <a:ext cx="7238880" cy="2362320"/>
            <a:chOff x="1905120" y="3124080"/>
            <a:chExt cx="7238880" cy="2362320"/>
          </a:xfrm>
        </p:grpSpPr>
        <p:sp>
          <p:nvSpPr>
            <p:cNvPr id="121" name=""/>
            <p:cNvSpPr/>
            <p:nvPr/>
          </p:nvSpPr>
          <p:spPr>
            <a:xfrm>
              <a:off x="1905120" y="3124080"/>
              <a:ext cx="7238880" cy="23623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0" bIns="162000" anchor="t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3581280"/>
              <a:ext cx="137160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Dependien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4495680"/>
              <a:ext cx="137160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Dependien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3581280"/>
              <a:ext cx="152388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Independien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91520" y="3581280"/>
              <a:ext cx="137160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Dependien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91520" y="4495680"/>
              <a:ext cx="137160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Dependiente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2" idx="3"/>
              <a:endCxn id="124" idx="1"/>
            </p:cNvCxnSpPr>
            <p:nvPr/>
          </p:nvCxnSpPr>
          <p:spPr>
            <a:xfrm>
              <a:off x="3733560" y="3847680"/>
              <a:ext cx="10674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  <p:cxnSp>
          <p:nvCxnSpPr>
            <p:cNvPr id="128" name=""/>
            <p:cNvCxnSpPr>
              <a:stCxn id="123" idx="3"/>
              <a:endCxn id="124" idx="1"/>
            </p:cNvCxnSpPr>
            <p:nvPr/>
          </p:nvCxnSpPr>
          <p:spPr>
            <a:xfrm flipV="1">
              <a:off x="3733560" y="3847680"/>
              <a:ext cx="1067400" cy="915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  <p:cxnSp>
          <p:nvCxnSpPr>
            <p:cNvPr id="129" name=""/>
            <p:cNvCxnSpPr>
              <a:stCxn id="125" idx="1"/>
              <a:endCxn id="124" idx="3"/>
            </p:cNvCxnSpPr>
            <p:nvPr/>
          </p:nvCxnSpPr>
          <p:spPr>
            <a:xfrm flipH="1">
              <a:off x="6324120" y="3847680"/>
              <a:ext cx="10677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  <p:cxnSp>
          <p:nvCxnSpPr>
            <p:cNvPr id="130" name=""/>
            <p:cNvCxnSpPr>
              <a:stCxn id="126" idx="1"/>
              <a:endCxn id="124" idx="3"/>
            </p:cNvCxnSpPr>
            <p:nvPr/>
          </p:nvCxnSpPr>
          <p:spPr>
            <a:xfrm flipH="1" flipV="1">
              <a:off x="6324120" y="3847680"/>
              <a:ext cx="1067760" cy="915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  <p:sp>
          <p:nvSpPr>
            <p:cNvPr id="131" name=""/>
            <p:cNvSpPr/>
            <p:nvPr/>
          </p:nvSpPr>
          <p:spPr>
            <a:xfrm>
              <a:off x="4800600" y="4495680"/>
              <a:ext cx="152388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Medium Cond"/>
                </a:rPr>
                <a:t>Independien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22" idx="3"/>
              <a:endCxn id="131" idx="1"/>
            </p:cNvCxnSpPr>
            <p:nvPr/>
          </p:nvCxnSpPr>
          <p:spPr>
            <a:xfrm>
              <a:off x="3733560" y="3848040"/>
              <a:ext cx="1067400" cy="915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  <p:cxnSp>
          <p:nvCxnSpPr>
            <p:cNvPr id="133" name=""/>
            <p:cNvCxnSpPr>
              <a:stCxn id="123" idx="3"/>
              <a:endCxn id="131" idx="1"/>
            </p:cNvCxnSpPr>
            <p:nvPr/>
          </p:nvCxnSpPr>
          <p:spPr>
            <a:xfrm>
              <a:off x="3733560" y="4762080"/>
              <a:ext cx="10674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  <p:cxnSp>
          <p:nvCxnSpPr>
            <p:cNvPr id="134" name=""/>
            <p:cNvCxnSpPr>
              <a:stCxn id="125" idx="1"/>
              <a:endCxn id="131" idx="3"/>
            </p:cNvCxnSpPr>
            <p:nvPr/>
          </p:nvCxnSpPr>
          <p:spPr>
            <a:xfrm flipH="1">
              <a:off x="6324120" y="3848040"/>
              <a:ext cx="1067760" cy="915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  <p:cxnSp>
          <p:nvCxnSpPr>
            <p:cNvPr id="135" name=""/>
            <p:cNvCxnSpPr>
              <a:stCxn id="126" idx="1"/>
              <a:endCxn id="131" idx="3"/>
            </p:cNvCxnSpPr>
            <p:nvPr/>
          </p:nvCxnSpPr>
          <p:spPr>
            <a:xfrm flipH="1">
              <a:off x="6324120" y="4762080"/>
              <a:ext cx="10677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0" y="4221000"/>
            <a:ext cx="1600200" cy="992520"/>
            <a:chOff x="0" y="4221000"/>
            <a:chExt cx="1600200" cy="992520"/>
          </a:xfrm>
        </p:grpSpPr>
        <p:sp>
          <p:nvSpPr>
            <p:cNvPr id="137" name=""/>
            <p:cNvSpPr/>
            <p:nvPr/>
          </p:nvSpPr>
          <p:spPr>
            <a:xfrm>
              <a:off x="0" y="4221000"/>
              <a:ext cx="1600200" cy="276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4520"/>
              <a:ext cx="1600200" cy="459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concepto y clas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05120" y="1981080"/>
            <a:ext cx="7238880" cy="2590920"/>
            <a:chOff x="1905120" y="1981080"/>
            <a:chExt cx="7238880" cy="2590920"/>
          </a:xfrm>
        </p:grpSpPr>
        <p:sp>
          <p:nvSpPr>
            <p:cNvPr id="140" name=""/>
            <p:cNvSpPr/>
            <p:nvPr/>
          </p:nvSpPr>
          <p:spPr>
            <a:xfrm>
              <a:off x="1905120" y="1981080"/>
              <a:ext cx="7238880" cy="2590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0" bIns="162000" anchor="t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362320" y="2238840"/>
              <a:ext cx="6400800" cy="2019240"/>
              <a:chOff x="2362320" y="2238840"/>
              <a:chExt cx="6400800" cy="2019240"/>
            </a:xfrm>
          </p:grpSpPr>
          <p:sp>
            <p:nvSpPr>
              <p:cNvPr id="142" name=""/>
              <p:cNvSpPr/>
              <p:nvPr/>
            </p:nvSpPr>
            <p:spPr>
              <a:xfrm>
                <a:off x="2362320" y="2550960"/>
                <a:ext cx="137160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le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62320" y="3465360"/>
                <a:ext cx="137160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le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00600" y="2550960"/>
                <a:ext cx="152388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le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91520" y="2550960"/>
                <a:ext cx="137160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le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91520" y="3465360"/>
                <a:ext cx="137160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le 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7" name=""/>
              <p:cNvCxnSpPr>
                <a:stCxn id="142" idx="3"/>
                <a:endCxn id="144" idx="1"/>
              </p:cNvCxnSpPr>
              <p:nvPr/>
            </p:nvCxnSpPr>
            <p:spPr>
              <a:xfrm>
                <a:off x="3733560" y="2817360"/>
                <a:ext cx="106740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48" name=""/>
              <p:cNvCxnSpPr>
                <a:stCxn id="143" idx="3"/>
                <a:endCxn id="144" idx="1"/>
              </p:cNvCxnSpPr>
              <p:nvPr/>
            </p:nvCxnSpPr>
            <p:spPr>
              <a:xfrm flipV="1">
                <a:off x="3733560" y="2817360"/>
                <a:ext cx="1067400" cy="9151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49" name=""/>
              <p:cNvCxnSpPr>
                <a:stCxn id="145" idx="1"/>
                <a:endCxn id="144" idx="3"/>
              </p:cNvCxnSpPr>
              <p:nvPr/>
            </p:nvCxnSpPr>
            <p:spPr>
              <a:xfrm flipH="1">
                <a:off x="6324120" y="2817360"/>
                <a:ext cx="10677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0" name=""/>
              <p:cNvCxnSpPr>
                <a:stCxn id="146" idx="1"/>
                <a:endCxn id="144" idx="3"/>
              </p:cNvCxnSpPr>
              <p:nvPr/>
            </p:nvCxnSpPr>
            <p:spPr>
              <a:xfrm flipH="1" flipV="1">
                <a:off x="6324120" y="2817360"/>
                <a:ext cx="1067760" cy="9151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sp>
            <p:nvSpPr>
              <p:cNvPr id="151" name=""/>
              <p:cNvSpPr/>
              <p:nvPr/>
            </p:nvSpPr>
            <p:spPr>
              <a:xfrm>
                <a:off x="4800600" y="3465360"/>
                <a:ext cx="152388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ranklin Gothic Medium Cond"/>
                  </a:rPr>
                  <a:t>Variable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2" name=""/>
              <p:cNvCxnSpPr>
                <a:stCxn id="142" idx="3"/>
                <a:endCxn id="151" idx="1"/>
              </p:cNvCxnSpPr>
              <p:nvPr/>
            </p:nvCxnSpPr>
            <p:spPr>
              <a:xfrm>
                <a:off x="3733560" y="2817720"/>
                <a:ext cx="1067400" cy="9151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3" name=""/>
              <p:cNvCxnSpPr>
                <a:stCxn id="143" idx="3"/>
                <a:endCxn id="151" idx="1"/>
              </p:cNvCxnSpPr>
              <p:nvPr/>
            </p:nvCxnSpPr>
            <p:spPr>
              <a:xfrm>
                <a:off x="3733560" y="3731760"/>
                <a:ext cx="106740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4" name=""/>
              <p:cNvCxnSpPr>
                <a:stCxn id="145" idx="1"/>
                <a:endCxn id="151" idx="3"/>
              </p:cNvCxnSpPr>
              <p:nvPr/>
            </p:nvCxnSpPr>
            <p:spPr>
              <a:xfrm flipH="1">
                <a:off x="6324120" y="2817720"/>
                <a:ext cx="1067760" cy="9151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5" name=""/>
              <p:cNvCxnSpPr>
                <a:stCxn id="146" idx="1"/>
                <a:endCxn id="151" idx="3"/>
              </p:cNvCxnSpPr>
              <p:nvPr/>
            </p:nvCxnSpPr>
            <p:spPr>
              <a:xfrm flipH="1">
                <a:off x="6324120" y="3731760"/>
                <a:ext cx="10677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6" name=""/>
              <p:cNvCxnSpPr>
                <a:stCxn id="142" idx="2"/>
                <a:endCxn id="143" idx="0"/>
              </p:cNvCxnSpPr>
              <p:nvPr/>
            </p:nvCxnSpPr>
            <p:spPr>
              <a:xfrm>
                <a:off x="3047760" y="3084480"/>
                <a:ext cx="1080" cy="3816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7" name=""/>
              <p:cNvCxnSpPr>
                <a:stCxn id="144" idx="2"/>
                <a:endCxn id="151" idx="0"/>
              </p:cNvCxnSpPr>
              <p:nvPr/>
            </p:nvCxnSpPr>
            <p:spPr>
              <a:xfrm>
                <a:off x="5562360" y="3084480"/>
                <a:ext cx="1080" cy="3816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8" name=""/>
              <p:cNvCxnSpPr>
                <a:stCxn id="145" idx="2"/>
                <a:endCxn id="146" idx="0"/>
              </p:cNvCxnSpPr>
              <p:nvPr/>
            </p:nvCxnSpPr>
            <p:spPr>
              <a:xfrm>
                <a:off x="8076960" y="3084480"/>
                <a:ext cx="1080" cy="3816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59" name=""/>
              <p:cNvCxnSpPr>
                <a:stCxn id="142" idx="0"/>
                <a:endCxn id="145" idx="0"/>
              </p:cNvCxnSpPr>
              <p:nvPr/>
            </p:nvCxnSpPr>
            <p:spPr>
              <a:xfrm flipH="1" rot="16200000">
                <a:off x="5561640" y="36000"/>
                <a:ext cx="2520" cy="50299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160" name=""/>
              <p:cNvCxnSpPr>
                <a:stCxn id="143" idx="2"/>
                <a:endCxn id="146" idx="2"/>
              </p:cNvCxnSpPr>
              <p:nvPr/>
            </p:nvCxnSpPr>
            <p:spPr>
              <a:xfrm flipH="1" rot="16200000">
                <a:off x="5562000" y="1484640"/>
                <a:ext cx="2160" cy="50299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</p:cxnSp>
        </p:grpSp>
      </p:grp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8600" y="22392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Criterios de clasificación de las técnicas de análisis multi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no 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438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581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mix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8600" y="22392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Criterios de clasificación de las técnicas de análisis multi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de inter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438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de 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28960" y="2239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inter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fa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2096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1240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correspo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40384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calamiento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8960" y="2239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inter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22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821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28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Franklin Gothic Medium Cond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754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concepto y 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fa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05720" y="2971800"/>
            <a:ext cx="1218600" cy="2895480"/>
            <a:chOff x="6705720" y="2971800"/>
            <a:chExt cx="1218600" cy="2895480"/>
          </a:xfrm>
        </p:grpSpPr>
        <p:sp>
          <p:nvSpPr>
            <p:cNvPr id="208" name=""/>
            <p:cNvSpPr/>
            <p:nvPr/>
          </p:nvSpPr>
          <p:spPr>
            <a:xfrm>
              <a:off x="6705720" y="2971800"/>
              <a:ext cx="12186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Facto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5257800"/>
              <a:ext cx="121860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Facto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14080" y="2513880"/>
            <a:ext cx="2591280" cy="3810960"/>
            <a:chOff x="4114080" y="2513880"/>
            <a:chExt cx="2591280" cy="3810960"/>
          </a:xfrm>
        </p:grpSpPr>
        <p:cxnSp>
          <p:nvCxnSpPr>
            <p:cNvPr id="211" name=""/>
            <p:cNvCxnSpPr>
              <a:stCxn id="208" idx="1"/>
              <a:endCxn id="212" idx="3"/>
            </p:cNvCxnSpPr>
            <p:nvPr/>
          </p:nvCxnSpPr>
          <p:spPr>
            <a:xfrm flipH="1" flipV="1">
              <a:off x="4114080" y="2513880"/>
              <a:ext cx="25916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13" name=""/>
            <p:cNvCxnSpPr>
              <a:stCxn id="208" idx="1"/>
              <a:endCxn id="214" idx="3"/>
            </p:cNvCxnSpPr>
            <p:nvPr/>
          </p:nvCxnSpPr>
          <p:spPr>
            <a:xfrm flipH="1">
              <a:off x="4114080" y="3276360"/>
              <a:ext cx="259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15" name=""/>
            <p:cNvCxnSpPr>
              <a:stCxn id="208" idx="1"/>
              <a:endCxn id="216" idx="3"/>
            </p:cNvCxnSpPr>
            <p:nvPr/>
          </p:nvCxnSpPr>
          <p:spPr>
            <a:xfrm flipH="1">
              <a:off x="4114080" y="3276720"/>
              <a:ext cx="25916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17" name=""/>
            <p:cNvCxnSpPr>
              <a:stCxn id="209" idx="1"/>
              <a:endCxn id="218" idx="3"/>
            </p:cNvCxnSpPr>
            <p:nvPr/>
          </p:nvCxnSpPr>
          <p:spPr>
            <a:xfrm flipH="1" flipV="1">
              <a:off x="4114080" y="4799880"/>
              <a:ext cx="25916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19" name=""/>
            <p:cNvCxnSpPr>
              <a:stCxn id="209" idx="1"/>
              <a:endCxn id="220" idx="3"/>
            </p:cNvCxnSpPr>
            <p:nvPr/>
          </p:nvCxnSpPr>
          <p:spPr>
            <a:xfrm flipH="1">
              <a:off x="4114080" y="5562360"/>
              <a:ext cx="259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21" name=""/>
            <p:cNvCxnSpPr>
              <a:stCxn id="209" idx="1"/>
              <a:endCxn id="222" idx="3"/>
            </p:cNvCxnSpPr>
            <p:nvPr/>
          </p:nvCxnSpPr>
          <p:spPr>
            <a:xfrm flipH="1">
              <a:off x="4114080" y="5562720"/>
              <a:ext cx="25916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grpSp>
        <p:nvGrpSpPr>
          <p:cNvPr id="223" name=""/>
          <p:cNvGrpSpPr/>
          <p:nvPr/>
        </p:nvGrpSpPr>
        <p:grpSpPr>
          <a:xfrm>
            <a:off x="2877120" y="2209680"/>
            <a:ext cx="1237680" cy="4419720"/>
            <a:chOff x="2877120" y="2209680"/>
            <a:chExt cx="1237680" cy="4419720"/>
          </a:xfrm>
        </p:grpSpPr>
        <p:sp>
          <p:nvSpPr>
            <p:cNvPr id="212" name=""/>
            <p:cNvSpPr/>
            <p:nvPr/>
          </p:nvSpPr>
          <p:spPr>
            <a:xfrm>
              <a:off x="3505320" y="2209680"/>
              <a:ext cx="6094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5320" y="29718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5320" y="37339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05320" y="4495680"/>
              <a:ext cx="6094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5320" y="525780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05320" y="6019920"/>
              <a:ext cx="60948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Franklin Gothic Medium Cond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2" idx="1"/>
              <a:endCxn id="214" idx="1"/>
            </p:cNvCxnSpPr>
            <p:nvPr/>
          </p:nvCxnSpPr>
          <p:spPr>
            <a:xfrm flipH="1" flipV="1" rot="10800000">
              <a:off x="3504960" y="2513520"/>
              <a:ext cx="2160" cy="76284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225" name=""/>
            <p:cNvCxnSpPr>
              <a:stCxn id="214" idx="1"/>
              <a:endCxn id="216" idx="1"/>
            </p:cNvCxnSpPr>
            <p:nvPr/>
          </p:nvCxnSpPr>
          <p:spPr>
            <a:xfrm flipH="1" flipV="1" rot="10800000">
              <a:off x="3504960" y="3276360"/>
              <a:ext cx="2160" cy="762480"/>
            </a:xfrm>
            <a:prstGeom prst="curvedConnector5">
              <a:avLst>
                <a:gd name="adj1" fmla="val -14400000"/>
                <a:gd name="adj2" fmla="val 49976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226" name=""/>
            <p:cNvCxnSpPr>
              <a:stCxn id="212" idx="1"/>
              <a:endCxn id="216" idx="1"/>
            </p:cNvCxnSpPr>
            <p:nvPr/>
          </p:nvCxnSpPr>
          <p:spPr>
            <a:xfrm flipH="1" flipV="1" rot="10800000">
              <a:off x="3504960" y="2513520"/>
              <a:ext cx="2160" cy="1524600"/>
            </a:xfrm>
            <a:prstGeom prst="curvedConnector5">
              <a:avLst>
                <a:gd name="adj1" fmla="val -34900000"/>
                <a:gd name="adj2" fmla="val 50000"/>
                <a:gd name="adj3" fmla="val -349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227" name=""/>
            <p:cNvCxnSpPr>
              <a:stCxn id="218" idx="1"/>
              <a:endCxn id="220" idx="1"/>
            </p:cNvCxnSpPr>
            <p:nvPr/>
          </p:nvCxnSpPr>
          <p:spPr>
            <a:xfrm flipH="1" flipV="1" rot="10800000">
              <a:off x="3504960" y="4799520"/>
              <a:ext cx="2160" cy="76284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228" name=""/>
            <p:cNvCxnSpPr>
              <a:stCxn id="220" idx="1"/>
              <a:endCxn id="222" idx="1"/>
            </p:cNvCxnSpPr>
            <p:nvPr/>
          </p:nvCxnSpPr>
          <p:spPr>
            <a:xfrm flipH="1" flipV="1" rot="10800000">
              <a:off x="3504960" y="5562360"/>
              <a:ext cx="2160" cy="762480"/>
            </a:xfrm>
            <a:prstGeom prst="curvedConnector5">
              <a:avLst>
                <a:gd name="adj1" fmla="val -14400000"/>
                <a:gd name="adj2" fmla="val 49976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229" name=""/>
            <p:cNvCxnSpPr>
              <a:stCxn id="218" idx="1"/>
              <a:endCxn id="222" idx="1"/>
            </p:cNvCxnSpPr>
            <p:nvPr/>
          </p:nvCxnSpPr>
          <p:spPr>
            <a:xfrm flipH="1" flipV="1" rot="10800000">
              <a:off x="3504960" y="4799520"/>
              <a:ext cx="2160" cy="1524600"/>
            </a:xfrm>
            <a:prstGeom prst="curvedConnector5">
              <a:avLst>
                <a:gd name="adj1" fmla="val -34400000"/>
                <a:gd name="adj2" fmla="val 50000"/>
                <a:gd name="adj3" fmla="val -34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</p:cxnSp>
      </p:grp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03:29:02Z</dcterms:created>
  <dc:creator>Homework</dc:creator>
  <dc:description/>
  <dc:language>en-US</dc:language>
  <cp:lastModifiedBy>joibanez</cp:lastModifiedBy>
  <dcterms:modified xsi:type="dcterms:W3CDTF">2001-02-21T19:34:13Z</dcterms:modified>
  <cp:revision>58</cp:revision>
  <dc:subject/>
  <dc:title>Sin título de diapositiva</dc:title>
</cp:coreProperties>
</file>